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6F5-3473-445D-A72C-CE9F084FB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38F-4975-46AA-812E-F6CE9B30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BE9C-AB2F-4FF0-8BBF-5AADD93AC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0BA-C676-4184-A193-23DFD1FA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0C49-AC84-4018-9898-1F393097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45BB-0FF0-4BF4-9CC9-A2B9A9EE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0C3B-FC4A-409B-8708-566C5240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FDA2-9DD7-4329-A5F8-3413A5C3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DAA7-A5AB-4C34-840E-A60BC15A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E032-C69F-4103-852E-295B8E89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7B85B-5604-4ACF-8BFF-AD52CBD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04A-F052-4943-9E76-2E0185A1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A2FD-C4AF-4BF3-8D75-AC2F396B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970A-AC69-4B6F-BC7B-F5EF94C2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38A0-55A5-4022-A53C-0C26609D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924F-98BB-444D-93F8-F8FDBC05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25A3-C8D5-45C9-B17D-BA2936120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AD8-8EBB-4040-B54F-CE08EE5B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160-0B69-4A49-AB05-388466E9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602-18E8-4170-9DEE-5CD14992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8917-EFE5-478E-9444-27C711BF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D09-B30B-4C77-AF86-2BA1692C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F535-7A74-4409-8E2C-2D71E412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82F-069C-400D-832D-9DFCFA0B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52C5-B17C-44B3-9AC8-6F53C036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820-9AFE-4F20-81BE-6AAF1A8AB42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ототерап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ња Зечевић Лук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ттраумат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:повред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еких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ки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јмање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48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ас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иалгиј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еуралг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ез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МН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анзглоб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генератив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уматиза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урункулоз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љивич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од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С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Г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Ф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Т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олов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осл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кстракциј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уб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ронтал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ксилар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нуситис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фебрил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та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кут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апа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глобо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клоност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варењу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лиг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оцес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лузивн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ртеријск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анестезиј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кож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термичке</a:t>
            </a: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ражи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екомпензациј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италних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ргана</a:t>
            </a:r>
            <a:r>
              <a:rPr b="0" lang="sr-Latn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екцем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дерматитис</a:t>
            </a:r>
            <a:r>
              <a:rPr b="0" lang="sr-Latn-CS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фрацрвена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фот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мер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з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енско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ри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јагности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еч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лез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видите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партал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ензије</a:t>
            </a: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Термографиј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графс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стр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гр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цирку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мотач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лика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ртеријс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то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рмовиз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ат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ик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ш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ржавај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оносфе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X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зонск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уп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пустит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штет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60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3-5%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чев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калн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д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ђ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ексор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ра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кстремите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дивидуа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тљив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ј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ч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и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раст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е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еди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бино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а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еловањ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унц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бљ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ш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о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ж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ш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годишње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б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морск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си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лач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гађенос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здух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Светлосн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надражај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"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етлос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дражај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( Holl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c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чул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д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тичким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нос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зенцефало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м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кундар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о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физ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чано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лучивањ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сул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диц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ректног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јств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говоран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ну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фун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зм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497560" cy="5410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6"/>
          <p:cNvSpPr/>
          <p:nvPr/>
        </p:nvSpPr>
        <p:spPr>
          <a:xfrm>
            <a:off x="1771200" y="328680"/>
            <a:ext cx="54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Ше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сунчањ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по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alibri"/>
              </a:rPr>
              <a:t>Rollier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36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за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елиотерапију</a:t>
            </a:r>
            <a:r>
              <a:rPr b="1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лез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ифе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торног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ск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псориас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екцем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рахитис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охром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анем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ц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спираторних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ев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конвалесценциј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гетативн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ремећај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en-GB" sz="5400" spc="-1" strike="noStrike">
                <a:solidFill>
                  <a:srgbClr val="333399"/>
                </a:solidFill>
                <a:latin typeface="Times New Roman YU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Фототерапија</a:t>
            </a:r>
            <a:r>
              <a:rPr b="1" lang="sr-Latn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sr-CS" sz="5400" spc="-1" strike="noStrike">
                <a:solidFill>
                  <a:srgbClr val="333399"/>
                </a:solidFill>
                <a:latin typeface="Arial"/>
                <a:ea typeface="Times New Roman"/>
              </a:rPr>
              <a:t>подела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ели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Хромотерап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ИЦ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В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рац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СЕ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птрон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“ЗЕПТЕР”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ламп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Контраиндикације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а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хелиотерапију</a:t>
            </a:r>
            <a:r>
              <a:rPr b="1" lang="sr-Latn-CS" sz="4000" spc="-1" strike="noStrike">
                <a:solidFill>
                  <a:srgbClr val="333399"/>
                </a:solidFill>
                <a:latin typeface="France YU"/>
                <a:ea typeface="Times New Roman"/>
              </a:rPr>
              <a:t>            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ов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ници(срч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ни бубрежни.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брил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фективна обоље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клонос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рварењ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Ц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.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61760"/>
            <a:ext cx="7792920" cy="99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Хромотерапиј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им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њ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сториј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сихијатрији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1c1c1c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л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обезбојавање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оворођенчади са жутицо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жу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тимулативно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кат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зел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мирујућ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јач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наболизам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црвен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ранџ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надражајн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бо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љубичаст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успор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ритам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а</a:t>
            </a:r>
            <a:r>
              <a:rPr b="0" lang="sr-Latn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ал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родубљује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дисање и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повећава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вентилациону</a:t>
            </a:r>
            <a:r>
              <a:rPr b="0" lang="en-GB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Calibri"/>
                <a:ea typeface="Times New Roman"/>
              </a:rPr>
              <a:t>способност</a:t>
            </a:r>
            <a:r>
              <a:rPr b="1" lang="en-GB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1c1c1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БИОПТРОН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ПОЛАРИЗОВАНА</a:t>
            </a:r>
            <a:r>
              <a:rPr b="1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4000"/>
            </a:br>
            <a:r>
              <a:rPr b="1" lang="sr-CS" sz="4000" spc="-1" strike="noStrike">
                <a:solidFill>
                  <a:srgbClr val="333399"/>
                </a:solidFill>
                <a:latin typeface="Calibri"/>
              </a:rPr>
              <a:t>СВЕТЛОСТ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линеар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аризов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лихроматск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т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400-2000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ј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ц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дљив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пекта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е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Ц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б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елам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себ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“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БРУС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”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вишеслојн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огледал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пуштањ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роз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сте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ото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-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илтер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ЕПТЕР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ушти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нос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додатн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тимулиш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ћелијск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етаболиза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ff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РАЗЛИКА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ЗМЕЂУ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ОБИЧ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И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ПОЛАРИЗОВАНЕ</a:t>
            </a:r>
            <a:r>
              <a:rPr b="0" lang="sr-Latn-CS" sz="4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ветлос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рац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ростир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аралелним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вн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алас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нис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синхронизован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мај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зличиту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фреквенц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енергиј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мал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л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констант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ФИЗИОЛОШКА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ДЕЈСТВА БИОПТРОН</a:t>
            </a:r>
            <a:r>
              <a:rPr b="0" lang="sr-Latn-CS" sz="3200" spc="-1" strike="noStrike">
                <a:solidFill>
                  <a:srgbClr val="333399"/>
                </a:solidFill>
                <a:latin typeface="Calibri"/>
              </a:rPr>
              <a:t> </a:t>
            </a:r>
            <a:br>
              <a:rPr sz="3200"/>
            </a:br>
            <a:r>
              <a:rPr b="0" lang="sr-CS" sz="3200" spc="-1" strike="noStrike">
                <a:solidFill>
                  <a:srgbClr val="333399"/>
                </a:solidFill>
                <a:latin typeface="Calibri"/>
              </a:rPr>
              <a:t>СВЕТЛ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ск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тенција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мбра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ТП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гулатор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цес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гоцитоз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кроциркулациј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ат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а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ћелиј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ктив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акрофаг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дстич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одукцију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акто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КЛИНИЧ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поуспешуј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зарастање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рана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торпидних</a:t>
            </a:r>
            <a:r>
              <a:rPr b="0" lang="sr-Latn-CS" sz="3200" spc="-1" strike="noStrike">
                <a:solidFill>
                  <a:srgbClr val="1c1c1c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улцер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тиинфламатор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1c1c1c"/>
                </a:solidFill>
                <a:latin typeface="Calibri"/>
              </a:rPr>
              <a:t>аналгетс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ОЗИРАЊЕ  БИОПТРОН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0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уга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90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пе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рем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2-8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нев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дуслов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чис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мера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реј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ерил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оде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2 )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езинфику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идрир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оксигениш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кож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р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терап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3399"/>
                </a:solidFill>
                <a:latin typeface="Tahoma"/>
              </a:rPr>
              <a:t>ИНДИКАЦИЈЕ ЗА ПРИМЕНУ “</a:t>
            </a:r>
            <a:r>
              <a:rPr b="0" lang="sr-CS" sz="3600" spc="-1" strike="noStrike">
                <a:solidFill>
                  <a:srgbClr val="333399"/>
                </a:solidFill>
                <a:latin typeface="Calibri"/>
              </a:rPr>
              <a:t>БИОПТРОН” СВЕТЛОС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ране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улкус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пекот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куб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ак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дермат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целули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постоперативни</a:t>
            </a:r>
            <a:r>
              <a:rPr b="0" lang="sr-Latn-CS" sz="2800" spc="-1" strike="noStrike">
                <a:solidFill>
                  <a:srgbClr val="1c1c1c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1c1c1c"/>
                </a:solidFill>
                <a:latin typeface="Tahoma"/>
              </a:rPr>
              <a:t>ожиљц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агад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адавица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дрениран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инузити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оз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ртрит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ибромиалг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портск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85440"/>
            <a:ext cx="7792920" cy="107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ЛТРАВИОЛЕТНИ</a:t>
            </a:r>
            <a:r>
              <a:rPr b="1" lang="sr-Latn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рив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01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893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струисан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ештачк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“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варц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мп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Кварц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амп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6666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уалистичк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рирод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ветл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8908920" y="2017800"/>
          <a:ext cx="46080" cy="411480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одела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УВ</a:t>
            </a: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80 - 315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15 - 28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7398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5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лтравиолетн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В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алас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жине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280 - 13,6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66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Локалн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зв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рите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актерицидн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фека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дук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итамин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активациј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ензи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617040"/>
            <a:ext cx="8258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Регионал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осетљивост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зрак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(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петостепен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скала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2608200" y="1981080"/>
            <a:ext cx="39276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иодоз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уга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растојањ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број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да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Tahoma"/>
              </a:rPr>
              <a:t>Биодоз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0" y="6171840"/>
          <a:ext cx="76320" cy="304920"/>
        </p:xfrm>
        <a:graphic>
          <a:graphicData uri="http://schemas.openxmlformats.org/drawingml/2006/table"/>
        </a:graphic>
      </p:graphicFrame>
      <p:grpSp>
        <p:nvGrpSpPr>
          <p:cNvPr id="221" name="Group 4"/>
          <p:cNvGrpSpPr/>
          <p:nvPr/>
        </p:nvGrpSpPr>
        <p:grpSpPr>
          <a:xfrm>
            <a:off x="1066680" y="2209680"/>
            <a:ext cx="6324120" cy="3428640"/>
            <a:chOff x="1066680" y="2209680"/>
            <a:chExt cx="6324120" cy="3428640"/>
          </a:xfrm>
        </p:grpSpPr>
        <p:sp>
          <p:nvSpPr>
            <p:cNvPr id="222" name="Rectangle 5"/>
            <p:cNvSpPr/>
            <p:nvPr/>
          </p:nvSpPr>
          <p:spPr>
            <a:xfrm>
              <a:off x="1163520" y="2209680"/>
              <a:ext cx="143568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tepen eritema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5934960" y="2209680"/>
              <a:ext cx="126252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Biodoza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7"/>
            <p:cNvSpPr/>
            <p:nvPr/>
          </p:nvSpPr>
          <p:spPr>
            <a:xfrm>
              <a:off x="6128280" y="2718000"/>
              <a:ext cx="12625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u min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Rectangle 8"/>
            <p:cNvSpPr/>
            <p:nvPr/>
          </p:nvSpPr>
          <p:spPr>
            <a:xfrm>
              <a:off x="1163520" y="31348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9"/>
            <p:cNvSpPr/>
            <p:nvPr/>
          </p:nvSpPr>
          <p:spPr>
            <a:xfrm>
              <a:off x="259920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7" name="Rectangle 10"/>
            <p:cNvSpPr/>
            <p:nvPr/>
          </p:nvSpPr>
          <p:spPr>
            <a:xfrm>
              <a:off x="3517560" y="31348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Rectangle 11"/>
            <p:cNvSpPr/>
            <p:nvPr/>
          </p:nvSpPr>
          <p:spPr>
            <a:xfrm>
              <a:off x="4435920" y="31348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Rectangle 12"/>
            <p:cNvSpPr/>
            <p:nvPr/>
          </p:nvSpPr>
          <p:spPr>
            <a:xfrm>
              <a:off x="5354640" y="31348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Rectangle 13"/>
            <p:cNvSpPr/>
            <p:nvPr/>
          </p:nvSpPr>
          <p:spPr>
            <a:xfrm>
              <a:off x="1163520" y="355248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Rectangle 14"/>
            <p:cNvSpPr/>
            <p:nvPr/>
          </p:nvSpPr>
          <p:spPr>
            <a:xfrm>
              <a:off x="259920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15"/>
            <p:cNvSpPr/>
            <p:nvPr/>
          </p:nvSpPr>
          <p:spPr>
            <a:xfrm>
              <a:off x="3517560" y="355248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16"/>
            <p:cNvSpPr/>
            <p:nvPr/>
          </p:nvSpPr>
          <p:spPr>
            <a:xfrm>
              <a:off x="4435920" y="355248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17"/>
            <p:cNvSpPr/>
            <p:nvPr/>
          </p:nvSpPr>
          <p:spPr>
            <a:xfrm>
              <a:off x="5354640" y="355248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0,5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18"/>
            <p:cNvSpPr/>
            <p:nvPr/>
          </p:nvSpPr>
          <p:spPr>
            <a:xfrm>
              <a:off x="1163520" y="396972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19"/>
            <p:cNvSpPr/>
            <p:nvPr/>
          </p:nvSpPr>
          <p:spPr>
            <a:xfrm>
              <a:off x="259920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20"/>
            <p:cNvSpPr/>
            <p:nvPr/>
          </p:nvSpPr>
          <p:spPr>
            <a:xfrm>
              <a:off x="3517560" y="396972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4435920" y="396972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22"/>
            <p:cNvSpPr/>
            <p:nvPr/>
          </p:nvSpPr>
          <p:spPr>
            <a:xfrm>
              <a:off x="5354640" y="396972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23"/>
            <p:cNvSpPr/>
            <p:nvPr/>
          </p:nvSpPr>
          <p:spPr>
            <a:xfrm>
              <a:off x="1163520" y="438660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24"/>
            <p:cNvSpPr/>
            <p:nvPr/>
          </p:nvSpPr>
          <p:spPr>
            <a:xfrm>
              <a:off x="259920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25"/>
            <p:cNvSpPr/>
            <p:nvPr/>
          </p:nvSpPr>
          <p:spPr>
            <a:xfrm>
              <a:off x="3517560" y="438660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Rectangle 26"/>
            <p:cNvSpPr/>
            <p:nvPr/>
          </p:nvSpPr>
          <p:spPr>
            <a:xfrm>
              <a:off x="4435920" y="438660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27"/>
            <p:cNvSpPr/>
            <p:nvPr/>
          </p:nvSpPr>
          <p:spPr>
            <a:xfrm>
              <a:off x="5354640" y="438660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1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Rectangle 28"/>
            <p:cNvSpPr/>
            <p:nvPr/>
          </p:nvSpPr>
          <p:spPr>
            <a:xfrm>
              <a:off x="1163520" y="4804200"/>
              <a:ext cx="143568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Sl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259920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30"/>
            <p:cNvSpPr/>
            <p:nvPr/>
          </p:nvSpPr>
          <p:spPr>
            <a:xfrm>
              <a:off x="3517560" y="4804200"/>
              <a:ext cx="91800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Rectangle 31"/>
            <p:cNvSpPr/>
            <p:nvPr/>
          </p:nvSpPr>
          <p:spPr>
            <a:xfrm>
              <a:off x="4435920" y="4804200"/>
              <a:ext cx="91872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87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32"/>
            <p:cNvSpPr/>
            <p:nvPr/>
          </p:nvSpPr>
          <p:spPr>
            <a:xfrm>
              <a:off x="5354640" y="4804200"/>
              <a:ext cx="1262160" cy="4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0" name="Rectangle 33"/>
            <p:cNvSpPr/>
            <p:nvPr/>
          </p:nvSpPr>
          <p:spPr>
            <a:xfrm>
              <a:off x="1163520" y="5221080"/>
              <a:ext cx="143568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J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" name="Rectangle 34"/>
            <p:cNvSpPr/>
            <p:nvPr/>
          </p:nvSpPr>
          <p:spPr>
            <a:xfrm>
              <a:off x="259920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Rectangle 35"/>
            <p:cNvSpPr/>
            <p:nvPr/>
          </p:nvSpPr>
          <p:spPr>
            <a:xfrm>
              <a:off x="3517560" y="5221080"/>
              <a:ext cx="91800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France YU"/>
                  <a:ea typeface="Times New Roman"/>
                </a:rPr>
                <a:t> 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Rectangle 36"/>
            <p:cNvSpPr/>
            <p:nvPr/>
          </p:nvSpPr>
          <p:spPr>
            <a:xfrm>
              <a:off x="4435920" y="5221080"/>
              <a:ext cx="9187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000" spc="-1" strike="noStrike">
                  <a:solidFill>
                    <a:srgbClr val="ff0000"/>
                  </a:solidFill>
                  <a:latin typeface="Times New Roman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marL="5634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37"/>
            <p:cNvSpPr/>
            <p:nvPr/>
          </p:nvSpPr>
          <p:spPr>
            <a:xfrm>
              <a:off x="5354640" y="5221080"/>
              <a:ext cx="12621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France YU"/>
                  <a:ea typeface="Times New Roman"/>
                </a:rPr>
                <a:t>3,5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55" name="Group 38"/>
            <p:cNvGrpSpPr/>
            <p:nvPr/>
          </p:nvGrpSpPr>
          <p:grpSpPr>
            <a:xfrm>
              <a:off x="2502360" y="2209680"/>
              <a:ext cx="3335760" cy="508320"/>
              <a:chOff x="2502360" y="2209680"/>
              <a:chExt cx="3335760" cy="50832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2599200" y="2209680"/>
                <a:ext cx="3141720" cy="50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Vreme zračenja u min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40"/>
              <p:cNvSpPr/>
              <p:nvPr/>
            </p:nvSpPr>
            <p:spPr>
              <a:xfrm>
                <a:off x="2502360" y="2209680"/>
                <a:ext cx="3335760" cy="5083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58" name="Group 41"/>
            <p:cNvGrpSpPr/>
            <p:nvPr/>
          </p:nvGrpSpPr>
          <p:grpSpPr>
            <a:xfrm>
              <a:off x="1066680" y="2718000"/>
              <a:ext cx="1629360" cy="416880"/>
              <a:chOff x="1066680" y="2718000"/>
              <a:chExt cx="1629360" cy="416880"/>
            </a:xfrm>
          </p:grpSpPr>
          <p:sp>
            <p:nvSpPr>
              <p:cNvPr id="259" name="Rectangle 42"/>
              <p:cNvSpPr/>
              <p:nvPr/>
            </p:nvSpPr>
            <p:spPr>
              <a:xfrm>
                <a:off x="1163520" y="2718000"/>
                <a:ext cx="143532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France YU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43"/>
              <p:cNvSpPr/>
              <p:nvPr/>
            </p:nvSpPr>
            <p:spPr>
              <a:xfrm>
                <a:off x="1066680" y="2718000"/>
                <a:ext cx="162936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2696400" y="2718000"/>
              <a:ext cx="1111320" cy="416880"/>
              <a:chOff x="2696400" y="2718000"/>
              <a:chExt cx="1111320" cy="416880"/>
            </a:xfrm>
          </p:grpSpPr>
          <p:sp>
            <p:nvSpPr>
              <p:cNvPr id="262" name="Rectangle 45"/>
              <p:cNvSpPr/>
              <p:nvPr/>
            </p:nvSpPr>
            <p:spPr>
              <a:xfrm>
                <a:off x="27925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46"/>
              <p:cNvSpPr/>
              <p:nvPr/>
            </p:nvSpPr>
            <p:spPr>
              <a:xfrm>
                <a:off x="269640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4" name="Group 47"/>
            <p:cNvGrpSpPr/>
            <p:nvPr/>
          </p:nvGrpSpPr>
          <p:grpSpPr>
            <a:xfrm>
              <a:off x="3808080" y="2718000"/>
              <a:ext cx="1111320" cy="416880"/>
              <a:chOff x="3808080" y="2718000"/>
              <a:chExt cx="1111320" cy="416880"/>
            </a:xfrm>
          </p:grpSpPr>
          <p:sp>
            <p:nvSpPr>
              <p:cNvPr id="265" name="Rectangle 48"/>
              <p:cNvSpPr/>
              <p:nvPr/>
            </p:nvSpPr>
            <p:spPr>
              <a:xfrm>
                <a:off x="3904920" y="2718000"/>
                <a:ext cx="91800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49"/>
              <p:cNvSpPr/>
              <p:nvPr/>
            </p:nvSpPr>
            <p:spPr>
              <a:xfrm>
                <a:off x="3808080" y="2718000"/>
                <a:ext cx="111132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7" name="Group 50"/>
            <p:cNvGrpSpPr/>
            <p:nvPr/>
          </p:nvGrpSpPr>
          <p:grpSpPr>
            <a:xfrm>
              <a:off x="4919760" y="2718000"/>
              <a:ext cx="1111680" cy="416880"/>
              <a:chOff x="4919760" y="2718000"/>
              <a:chExt cx="1111680" cy="416880"/>
            </a:xfrm>
          </p:grpSpPr>
          <p:sp>
            <p:nvSpPr>
              <p:cNvPr id="268" name="Rectangle 51"/>
              <p:cNvSpPr/>
              <p:nvPr/>
            </p:nvSpPr>
            <p:spPr>
              <a:xfrm>
                <a:off x="5016600" y="2718000"/>
                <a:ext cx="917640" cy="41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0000"/>
                    </a:solidFill>
                    <a:latin typeface="France YU"/>
                    <a:ea typeface="Times New Roman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52"/>
              <p:cNvSpPr/>
              <p:nvPr/>
            </p:nvSpPr>
            <p:spPr>
              <a:xfrm>
                <a:off x="4919760" y="2718000"/>
                <a:ext cx="1111680" cy="4168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Дозирањ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уб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вод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знатн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инимал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к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24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т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лач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з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-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ч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венил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спа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враб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итациј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ч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љуштењ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еритемн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доза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III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ак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јав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едемо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екоти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вог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епе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Б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и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физиолошко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деловање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</a:t>
            </a:r>
            <a:r>
              <a:rPr b="1" lang="en-GB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чења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хемијск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ме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но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ед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тоелектрични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ич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внотеж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мисијо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-290520" algn="just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еномен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флуоресцен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њ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инетичког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т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пласирањем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лектро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дн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утањ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уг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0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т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метаболиз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еритр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г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број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леукоцит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муните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астрич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екре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реналн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функц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адбубр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стимул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ЦНС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ВН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нормализациј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гликемије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холестерол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, C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ahom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о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бољш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ген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пителиз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95280" y="914400"/>
            <a:ext cx="764856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  <a:ea typeface="Times New Roman"/>
              </a:rPr>
              <a:t>локално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цна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улгар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опет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ориас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уби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алги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урит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генератив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н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уматиза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неколошк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менореј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рур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рпид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н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аскуларно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лцу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црурис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фтамолог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ефар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цхом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топед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рактур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тиј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вреде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ких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ормагнет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спектар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према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таласној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дужини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актив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електромагнетних</a:t>
            </a:r>
            <a:r>
              <a:rPr b="0" lang="en-GB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" name="Group 54"/>
          <p:cNvGrpSpPr/>
          <p:nvPr/>
        </p:nvGrpSpPr>
        <p:grpSpPr>
          <a:xfrm>
            <a:off x="3809880" y="1828800"/>
            <a:ext cx="4571640" cy="4648320"/>
            <a:chOff x="3809880" y="1828800"/>
            <a:chExt cx="4571640" cy="4648320"/>
          </a:xfrm>
        </p:grpSpPr>
        <p:grpSp>
          <p:nvGrpSpPr>
            <p:cNvPr id="107" name="Group 52"/>
            <p:cNvGrpSpPr/>
            <p:nvPr/>
          </p:nvGrpSpPr>
          <p:grpSpPr>
            <a:xfrm>
              <a:off x="3817080" y="1833120"/>
              <a:ext cx="4555800" cy="4638960"/>
              <a:chOff x="3817080" y="1833120"/>
              <a:chExt cx="4555800" cy="4638960"/>
            </a:xfrm>
          </p:grpSpPr>
          <p:grpSp>
            <p:nvGrpSpPr>
              <p:cNvPr id="108" name="Group 21"/>
              <p:cNvGrpSpPr/>
              <p:nvPr/>
            </p:nvGrpSpPr>
            <p:grpSpPr>
              <a:xfrm>
                <a:off x="3817080" y="1833120"/>
                <a:ext cx="2429640" cy="579600"/>
                <a:chOff x="3817080" y="1833120"/>
                <a:chExt cx="2429640" cy="579600"/>
              </a:xfrm>
            </p:grpSpPr>
            <p:sp>
              <p:nvSpPr>
                <p:cNvPr id="109" name="Rectangle 4"/>
                <p:cNvSpPr/>
                <p:nvPr/>
              </p:nvSpPr>
              <p:spPr>
                <a:xfrm>
                  <a:off x="3926160" y="18331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Elektromagnetni</a:t>
                  </a:r>
                  <a:r>
                    <a:rPr b="0" lang="en-GB" sz="16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 zraci</a:t>
                  </a: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Rectangle 20"/>
                <p:cNvSpPr/>
                <p:nvPr/>
              </p:nvSpPr>
              <p:spPr>
                <a:xfrm>
                  <a:off x="3817080" y="18331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" name="Group 23"/>
              <p:cNvGrpSpPr/>
              <p:nvPr/>
            </p:nvGrpSpPr>
            <p:grpSpPr>
              <a:xfrm>
                <a:off x="6247080" y="1833120"/>
                <a:ext cx="2125800" cy="579600"/>
                <a:chOff x="6247080" y="1833120"/>
                <a:chExt cx="2125800" cy="57960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6356160" y="18331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Talasne dužine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Rectangle 22"/>
                <p:cNvSpPr/>
                <p:nvPr/>
              </p:nvSpPr>
              <p:spPr>
                <a:xfrm>
                  <a:off x="6247080" y="18331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" name="Group 25"/>
              <p:cNvGrpSpPr/>
              <p:nvPr/>
            </p:nvGrpSpPr>
            <p:grpSpPr>
              <a:xfrm>
                <a:off x="3817080" y="2412720"/>
                <a:ext cx="2429640" cy="579960"/>
                <a:chOff x="3817080" y="2412720"/>
                <a:chExt cx="2429640" cy="579960"/>
              </a:xfrm>
            </p:grpSpPr>
            <p:sp>
              <p:nvSpPr>
                <p:cNvPr id="115" name="Rectangle 6"/>
                <p:cNvSpPr/>
                <p:nvPr/>
              </p:nvSpPr>
              <p:spPr>
                <a:xfrm>
                  <a:off x="3926160" y="24127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Gama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Rectangle 24"/>
                <p:cNvSpPr/>
                <p:nvPr/>
              </p:nvSpPr>
              <p:spPr>
                <a:xfrm>
                  <a:off x="3817080" y="24127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" name="Group 27"/>
              <p:cNvGrpSpPr/>
              <p:nvPr/>
            </p:nvGrpSpPr>
            <p:grpSpPr>
              <a:xfrm>
                <a:off x="6247080" y="2412720"/>
                <a:ext cx="2125800" cy="579960"/>
                <a:chOff x="6247080" y="2412720"/>
                <a:chExt cx="2125800" cy="579960"/>
              </a:xfrm>
            </p:grpSpPr>
            <p:sp>
              <p:nvSpPr>
                <p:cNvPr id="118" name="Rectangle 7"/>
                <p:cNvSpPr/>
                <p:nvPr/>
              </p:nvSpPr>
              <p:spPr>
                <a:xfrm>
                  <a:off x="6356160" y="24127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01 - 0,01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Rectangle 26"/>
                <p:cNvSpPr/>
                <p:nvPr/>
              </p:nvSpPr>
              <p:spPr>
                <a:xfrm>
                  <a:off x="6247080" y="24127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" name="Group 29"/>
              <p:cNvGrpSpPr/>
              <p:nvPr/>
            </p:nvGrpSpPr>
            <p:grpSpPr>
              <a:xfrm>
                <a:off x="3817080" y="2993040"/>
                <a:ext cx="2429640" cy="579600"/>
                <a:chOff x="3817080" y="2993040"/>
                <a:chExt cx="2429640" cy="579600"/>
              </a:xfrm>
            </p:grpSpPr>
            <p:sp>
              <p:nvSpPr>
                <p:cNvPr id="121" name="Rectangle 8"/>
                <p:cNvSpPr/>
                <p:nvPr/>
              </p:nvSpPr>
              <p:spPr>
                <a:xfrm>
                  <a:off x="3926160" y="29930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X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Rectangle 28"/>
                <p:cNvSpPr/>
                <p:nvPr/>
              </p:nvSpPr>
              <p:spPr>
                <a:xfrm>
                  <a:off x="3817080" y="29930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" name="Group 31"/>
              <p:cNvGrpSpPr/>
              <p:nvPr/>
            </p:nvGrpSpPr>
            <p:grpSpPr>
              <a:xfrm>
                <a:off x="6247080" y="2993040"/>
                <a:ext cx="2125800" cy="579600"/>
                <a:chOff x="6247080" y="2993040"/>
                <a:chExt cx="2125800" cy="579600"/>
              </a:xfrm>
            </p:grpSpPr>
            <p:sp>
              <p:nvSpPr>
                <p:cNvPr id="124" name="Rectangle 9"/>
                <p:cNvSpPr/>
                <p:nvPr/>
              </p:nvSpPr>
              <p:spPr>
                <a:xfrm>
                  <a:off x="6356160" y="29930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0,01 - 1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Rectangle 30"/>
                <p:cNvSpPr/>
                <p:nvPr/>
              </p:nvSpPr>
              <p:spPr>
                <a:xfrm>
                  <a:off x="6247080" y="29930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" name="Group 33"/>
              <p:cNvGrpSpPr/>
              <p:nvPr/>
            </p:nvGrpSpPr>
            <p:grpSpPr>
              <a:xfrm>
                <a:off x="3817080" y="3572640"/>
                <a:ext cx="2429640" cy="579600"/>
                <a:chOff x="3817080" y="3572640"/>
                <a:chExt cx="2429640" cy="579600"/>
              </a:xfrm>
            </p:grpSpPr>
            <p:sp>
              <p:nvSpPr>
                <p:cNvPr id="127" name="Rectangle 10"/>
                <p:cNvSpPr/>
                <p:nvPr/>
              </p:nvSpPr>
              <p:spPr>
                <a:xfrm>
                  <a:off x="3926160" y="357264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U.V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Rectangle 32"/>
                <p:cNvSpPr/>
                <p:nvPr/>
              </p:nvSpPr>
              <p:spPr>
                <a:xfrm>
                  <a:off x="3817080" y="357264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" name="Group 35"/>
              <p:cNvGrpSpPr/>
              <p:nvPr/>
            </p:nvGrpSpPr>
            <p:grpSpPr>
              <a:xfrm>
                <a:off x="6247080" y="3572640"/>
                <a:ext cx="2125800" cy="579600"/>
                <a:chOff x="6247080" y="3572640"/>
                <a:chExt cx="2125800" cy="579600"/>
              </a:xfrm>
            </p:grpSpPr>
            <p:sp>
              <p:nvSpPr>
                <p:cNvPr id="130" name="Rectangle 11"/>
                <p:cNvSpPr/>
                <p:nvPr/>
              </p:nvSpPr>
              <p:spPr>
                <a:xfrm>
                  <a:off x="6356160" y="357264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0 - 38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" name="Rectangle 34"/>
                <p:cNvSpPr/>
                <p:nvPr/>
              </p:nvSpPr>
              <p:spPr>
                <a:xfrm>
                  <a:off x="6247080" y="357264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" name="Group 37"/>
              <p:cNvGrpSpPr/>
              <p:nvPr/>
            </p:nvGrpSpPr>
            <p:grpSpPr>
              <a:xfrm>
                <a:off x="3817080" y="4152600"/>
                <a:ext cx="2429640" cy="579960"/>
                <a:chOff x="3817080" y="4152600"/>
                <a:chExt cx="2429640" cy="579960"/>
              </a:xfrm>
            </p:grpSpPr>
            <p:sp>
              <p:nvSpPr>
                <p:cNvPr id="133" name="Rectangle 12"/>
                <p:cNvSpPr/>
                <p:nvPr/>
              </p:nvSpPr>
              <p:spPr>
                <a:xfrm>
                  <a:off x="3926160" y="415260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Vidljivi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Rectangle 36"/>
                <p:cNvSpPr/>
                <p:nvPr/>
              </p:nvSpPr>
              <p:spPr>
                <a:xfrm>
                  <a:off x="3817080" y="415260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5" name="Group 39"/>
              <p:cNvGrpSpPr/>
              <p:nvPr/>
            </p:nvGrpSpPr>
            <p:grpSpPr>
              <a:xfrm>
                <a:off x="6247080" y="4152600"/>
                <a:ext cx="2125800" cy="579960"/>
                <a:chOff x="6247080" y="4152600"/>
                <a:chExt cx="2125800" cy="579960"/>
              </a:xfrm>
            </p:grpSpPr>
            <p:sp>
              <p:nvSpPr>
                <p:cNvPr id="136" name="Rectangle 13"/>
                <p:cNvSpPr/>
                <p:nvPr/>
              </p:nvSpPr>
              <p:spPr>
                <a:xfrm>
                  <a:off x="6356160" y="415260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000000"/>
                      </a:solidFill>
                      <a:latin typeface="France YU"/>
                      <a:ea typeface="Times New Roman"/>
                    </a:rPr>
                    <a:t>380 - 760 n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Rectangle 38"/>
                <p:cNvSpPr/>
                <p:nvPr/>
              </p:nvSpPr>
              <p:spPr>
                <a:xfrm>
                  <a:off x="6247080" y="415260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8" name="Group 41"/>
              <p:cNvGrpSpPr/>
              <p:nvPr/>
            </p:nvGrpSpPr>
            <p:grpSpPr>
              <a:xfrm>
                <a:off x="3817080" y="4732560"/>
                <a:ext cx="2429640" cy="579600"/>
                <a:chOff x="3817080" y="4732560"/>
                <a:chExt cx="2429640" cy="579600"/>
              </a:xfrm>
            </p:grpSpPr>
            <p:sp>
              <p:nvSpPr>
                <p:cNvPr id="139" name="Rectangle 14"/>
                <p:cNvSpPr/>
                <p:nvPr/>
              </p:nvSpPr>
              <p:spPr>
                <a:xfrm>
                  <a:off x="3926160" y="473256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I.R. zra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Rectangle 40"/>
                <p:cNvSpPr/>
                <p:nvPr/>
              </p:nvSpPr>
              <p:spPr>
                <a:xfrm>
                  <a:off x="3817080" y="473256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1" name="Group 43"/>
              <p:cNvGrpSpPr/>
              <p:nvPr/>
            </p:nvGrpSpPr>
            <p:grpSpPr>
              <a:xfrm>
                <a:off x="6247080" y="4732560"/>
                <a:ext cx="2125800" cy="579600"/>
                <a:chOff x="6247080" y="4732560"/>
                <a:chExt cx="2125800" cy="579600"/>
              </a:xfrm>
            </p:grpSpPr>
            <p:sp>
              <p:nvSpPr>
                <p:cNvPr id="142" name="Rectangle 15"/>
                <p:cNvSpPr/>
                <p:nvPr/>
              </p:nvSpPr>
              <p:spPr>
                <a:xfrm>
                  <a:off x="6356160" y="473256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760 nm - 1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Rectangle 42"/>
                <p:cNvSpPr/>
                <p:nvPr/>
              </p:nvSpPr>
              <p:spPr>
                <a:xfrm>
                  <a:off x="6247080" y="473256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4" name="Group 45"/>
              <p:cNvGrpSpPr/>
              <p:nvPr/>
            </p:nvGrpSpPr>
            <p:grpSpPr>
              <a:xfrm>
                <a:off x="3817080" y="5312520"/>
                <a:ext cx="2429640" cy="579600"/>
                <a:chOff x="3817080" y="5312520"/>
                <a:chExt cx="2429640" cy="579600"/>
              </a:xfrm>
            </p:grpSpPr>
            <p:sp>
              <p:nvSpPr>
                <p:cNvPr id="145" name="Rectangle 16"/>
                <p:cNvSpPr/>
                <p:nvPr/>
              </p:nvSpPr>
              <p:spPr>
                <a:xfrm>
                  <a:off x="3926160" y="5312520"/>
                  <a:ext cx="221112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Mikr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Rectangle 44"/>
                <p:cNvSpPr/>
                <p:nvPr/>
              </p:nvSpPr>
              <p:spPr>
                <a:xfrm>
                  <a:off x="3817080" y="5312520"/>
                  <a:ext cx="242964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47" name="Group 47"/>
              <p:cNvGrpSpPr/>
              <p:nvPr/>
            </p:nvGrpSpPr>
            <p:grpSpPr>
              <a:xfrm>
                <a:off x="6247080" y="5312520"/>
                <a:ext cx="2125800" cy="579600"/>
                <a:chOff x="6247080" y="5312520"/>
                <a:chExt cx="2125800" cy="579600"/>
              </a:xfrm>
            </p:grpSpPr>
            <p:sp>
              <p:nvSpPr>
                <p:cNvPr id="148" name="Rectangle 17"/>
                <p:cNvSpPr/>
                <p:nvPr/>
              </p:nvSpPr>
              <p:spPr>
                <a:xfrm>
                  <a:off x="6356160" y="5312520"/>
                  <a:ext cx="1907280" cy="57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1 - 10 c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Rectangle 46"/>
                <p:cNvSpPr/>
                <p:nvPr/>
              </p:nvSpPr>
              <p:spPr>
                <a:xfrm>
                  <a:off x="6247080" y="5312520"/>
                  <a:ext cx="2125800" cy="579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0" name="Group 49"/>
              <p:cNvGrpSpPr/>
              <p:nvPr/>
            </p:nvGrpSpPr>
            <p:grpSpPr>
              <a:xfrm>
                <a:off x="3817080" y="5892120"/>
                <a:ext cx="2429640" cy="579960"/>
                <a:chOff x="3817080" y="5892120"/>
                <a:chExt cx="2429640" cy="579960"/>
              </a:xfrm>
            </p:grpSpPr>
            <p:sp>
              <p:nvSpPr>
                <p:cNvPr id="151" name="Rectangle 18"/>
                <p:cNvSpPr/>
                <p:nvPr/>
              </p:nvSpPr>
              <p:spPr>
                <a:xfrm>
                  <a:off x="3926160" y="5892120"/>
                  <a:ext cx="221112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Radiotalasi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Rectangle 48"/>
                <p:cNvSpPr/>
                <p:nvPr/>
              </p:nvSpPr>
              <p:spPr>
                <a:xfrm>
                  <a:off x="3817080" y="5892120"/>
                  <a:ext cx="242964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53" name="Group 51"/>
              <p:cNvGrpSpPr/>
              <p:nvPr/>
            </p:nvGrpSpPr>
            <p:grpSpPr>
              <a:xfrm>
                <a:off x="6247080" y="5892120"/>
                <a:ext cx="2125800" cy="579960"/>
                <a:chOff x="6247080" y="5892120"/>
                <a:chExt cx="2125800" cy="579960"/>
              </a:xfrm>
            </p:grpSpPr>
            <p:sp>
              <p:nvSpPr>
                <p:cNvPr id="154" name="Rectangle 19"/>
                <p:cNvSpPr/>
                <p:nvPr/>
              </p:nvSpPr>
              <p:spPr>
                <a:xfrm>
                  <a:off x="6356160" y="5892120"/>
                  <a:ext cx="1907280" cy="57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0000"/>
                      </a:solidFill>
                      <a:latin typeface="France YU"/>
                      <a:ea typeface="Times New Roman"/>
                    </a:rPr>
                    <a:t>do 1 km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Rectangle 50"/>
                <p:cNvSpPr/>
                <p:nvPr/>
              </p:nvSpPr>
              <p:spPr>
                <a:xfrm>
                  <a:off x="6247080" y="5892120"/>
                  <a:ext cx="2125800" cy="579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56" name="Rectangle 53"/>
            <p:cNvSpPr/>
            <p:nvPr/>
          </p:nvSpPr>
          <p:spPr>
            <a:xfrm>
              <a:off x="3809880" y="1828800"/>
              <a:ext cx="4571640" cy="46483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" name="Rectangle 56"/>
          <p:cNvSpPr/>
          <p:nvPr/>
        </p:nvSpPr>
        <p:spPr>
          <a:xfrm>
            <a:off x="380520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5"/>
              <p:cNvSpPr txBox="1"/>
              <p:nvPr/>
            </p:nvSpPr>
            <p:spPr>
              <a:xfrm>
                <a:off x="0" y="2590920"/>
                <a:ext cx="35053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h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rzina</m:t>
                        </m:r>
                        <m:r>
                          <m:rPr>
                            <m:lit/>
                            <m:nor/>
                          </m:rPr>
                          <m:t xml:space="preserve">svetlost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lasna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in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Rectangle 58"/>
          <p:cNvSpPr/>
          <p:nvPr/>
        </p:nvSpPr>
        <p:spPr>
          <a:xfrm>
            <a:off x="304920" y="3886200"/>
            <a:ext cx="335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q(H) - 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vetlosni kvant (energij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merican Typewriter YU"/>
                <a:ea typeface="Times New Roman"/>
              </a:rPr>
              <a:t>v - frekven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h - 6,67x10</a:t>
            </a:r>
            <a:r>
              <a:rPr b="1" lang="sr-Latn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/-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ндикације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-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пшт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коваленсцен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ем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хити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В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актив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БЦ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лућ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тиреодизам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шећерн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ест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сихијатријск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ољењ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знапредовал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хексиј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фотоген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болести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коже</a:t>
            </a:r>
            <a:r>
              <a:rPr b="0" lang="en-GB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лагр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упу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ладеж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комп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италних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јет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нтге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рматитис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лигн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тумор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хипервитаминоза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Б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р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Оштећењ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УВЗ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екот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ч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нежно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слепил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опште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протеинск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ш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заштита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филт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наочари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ahoma"/>
              </a:rPr>
              <a:t>ва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нфрацрвен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ци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А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Б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1500 -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Ц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 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770 -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620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Дуг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Р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ци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еко</a:t>
            </a:r>
            <a:r>
              <a:rPr b="0" lang="en-GB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0 </a:t>
            </a:r>
            <a:r>
              <a:rPr b="0" lang="sr-CS" sz="28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м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звори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ИР</a:t>
            </a:r>
            <a:r>
              <a:rPr b="1" lang="en-GB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333399"/>
                </a:solidFill>
                <a:latin typeface="France YU"/>
                <a:ea typeface="Times New Roman"/>
              </a:rPr>
              <a:t>зра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Природн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нце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штачки</a:t>
            </a:r>
            <a:r>
              <a:rPr b="1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звор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ијалицом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150 - 1500 W,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ч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у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пирал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направље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олфрам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ил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унгстрен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Бел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усијањ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око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3000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Ц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миту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рат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зра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велик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топлот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енергиј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Sollux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"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ламп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Грејачи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а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рефлектор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2014560" indent="-45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Светлосне</a:t>
            </a:r>
            <a:r>
              <a:rPr b="0" lang="en-GB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France YU"/>
                <a:ea typeface="Times New Roman"/>
              </a:rPr>
              <a:t>купк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1138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Физиолошки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ефекат</a:t>
            </a:r>
            <a:r>
              <a:rPr b="0" lang="en-U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дорнос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0,5 - 10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  <a:ea typeface="Times New Roman"/>
              </a:rPr>
              <a:t>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псорб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ткожн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убљ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тавље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рга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гу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Haed-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в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о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Локал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пшт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ит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хомог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ста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ма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игмент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г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мењ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Терапијск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дејства</a:t>
            </a:r>
            <a:r>
              <a:rPr b="0" lang="sr-Latn-CS" sz="4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333399"/>
                </a:solidFill>
                <a:latin typeface="Calibri"/>
              </a:rPr>
              <a:t>И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алгет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пазмолитич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ч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нулациј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нтиедематоз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Методика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примене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ИР</a:t>
            </a:r>
            <a:r>
              <a:rPr b="1" lang="en-U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 </a:t>
            </a:r>
            <a:r>
              <a:rPr b="1" lang="sr-CS" sz="4000" spc="-1" strike="noStrike">
                <a:solidFill>
                  <a:srgbClr val="333399"/>
                </a:solidFill>
                <a:latin typeface="Calibri"/>
                <a:ea typeface="Times New Roman"/>
              </a:rPr>
              <a:t>зрака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а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5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д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, 1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на у сериј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тојањ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зво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зраче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дређу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нов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убјективног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ећаја пацијен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гао од 90 степен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3T15:36:45Z</dcterms:created>
  <dc:creator>WIN98SE</dc:creator>
  <dc:description/>
  <dc:language>en-US</dc:language>
  <cp:lastModifiedBy>Info</cp:lastModifiedBy>
  <dcterms:modified xsi:type="dcterms:W3CDTF">2020-10-01T14:41:46Z</dcterms:modified>
  <cp:revision>35</cp:revision>
  <dc:subject/>
  <dc:title>Fototerapija  </dc:title>
</cp:coreProperties>
</file>